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F9CC-8085-4BCD-BDD6-733CC85100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6A5-3407-44B6-A3FB-E1B814BD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E25-9A3F-48DE-B45E-A6094322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60C-305F-48E9-98E5-6886EE8B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B73-D525-437F-AFF1-133E8081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CE30-D1F8-4FD4-ABD2-5E15E25F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1B3A-4637-47B4-B3C8-F7E4447A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0136-1F8E-4C02-8439-FE3F0467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64A3-3006-4A1A-9787-8ADC1DCC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AB07-1602-42CD-ADB6-EE7B1CBF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3264-E02B-459A-9375-E8EED94B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77D1-61B5-40E8-8571-B624000F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D0F-B3F6-4545-884D-D38C4267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C592-D2FF-4EE1-B3BD-F2D40E6C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B8C5-35FE-4B4E-835A-051E994B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0304-76EC-479D-BAE1-808D2DEC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4081-6DF3-4198-97D0-11CA5C06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71F2-6BAD-4769-8131-FAE6EE71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255-4FE5-432B-AC3F-0E0CC76E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806-7FC3-40E7-BFF8-FE476126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F8B-5D85-4032-8B2D-1BCA8088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8B0-3E2E-40F8-BB58-CF94A497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DC0-6776-4D11-A04E-89F164D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161-BF28-4EB3-99E4-4A7E135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CF8-35B3-45FE-AE43-4ABF46E8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96AB-EA5D-455B-8661-E8580B32ABB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B9EF-CEC1-41A7-81E9-5ADBAB8FFB0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12..ppt" TargetMode="External"/><Relationship Id="rId3" Type="http://schemas.openxmlformats.org/officeDocument/2006/relationships/hyperlink" Target="12..ppt" TargetMode="External"/><Relationship Id="rId4" Type="http://schemas.openxmlformats.org/officeDocument/2006/relationships/hyperlink" Target="12..ppt" TargetMode="External"/><Relationship Id="rId5" Type="http://schemas.openxmlformats.org/officeDocument/2006/relationships/hyperlink" Target="12..ppt" TargetMode="External"/><Relationship Id="rId6" Type="http://schemas.openxmlformats.org/officeDocument/2006/relationships/hyperlink" Target="12..ppt" TargetMode="External"/><Relationship Id="rId7" Type="http://schemas.openxmlformats.org/officeDocument/2006/relationships/hyperlink" Target="12.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23300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Comic Sans MS"/>
              </a:rPr>
              <a:t>Экономика и ее роль в жизни современного общества</a:t>
            </a:r>
            <a:r>
              <a:rPr b="1" lang="ru-RU" sz="56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5600"/>
            </a:b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252000"/>
            <a:ext cx="64008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78800" y="5576760"/>
            <a:ext cx="236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83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66440" y="48621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Национальный доход (НД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исчисленная в денежном выражении стоимость созданного  в стране в течение года совокупного проду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Д = ВНП – амортизация и косвенные нало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S01576_"/>
          <p:cNvPicPr/>
          <p:nvPr/>
        </p:nvPicPr>
        <p:blipFill>
          <a:blip r:embed="rId1"/>
          <a:stretch/>
        </p:blipFill>
        <p:spPr>
          <a:xfrm>
            <a:off x="7093080" y="692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3554_"/>
          <p:cNvPicPr/>
          <p:nvPr/>
        </p:nvPicPr>
        <p:blipFill>
          <a:blip r:embed="rId2"/>
          <a:stretch/>
        </p:blipFill>
        <p:spPr>
          <a:xfrm>
            <a:off x="7596360" y="5084640"/>
            <a:ext cx="1547640" cy="149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От чего зависит уровень жизни в стран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4" descr="PE03753_"/>
          <p:cNvPicPr/>
          <p:nvPr/>
        </p:nvPicPr>
        <p:blipFill>
          <a:blip r:embed="rId1"/>
          <a:stretch/>
        </p:blipFill>
        <p:spPr>
          <a:xfrm>
            <a:off x="395280" y="2565360"/>
            <a:ext cx="261936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Отношения </a:t>
            </a: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собств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E02955_"/>
          <p:cNvPicPr/>
          <p:nvPr/>
        </p:nvPicPr>
        <p:blipFill>
          <a:blip r:embed="rId2"/>
          <a:stretch/>
        </p:blipFill>
        <p:spPr>
          <a:xfrm>
            <a:off x="171360" y="1557360"/>
            <a:ext cx="191772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03556_"/>
          <p:cNvPicPr/>
          <p:nvPr/>
        </p:nvPicPr>
        <p:blipFill>
          <a:blip r:embed="rId3"/>
          <a:stretch/>
        </p:blipFill>
        <p:spPr>
          <a:xfrm>
            <a:off x="468360" y="4797360"/>
            <a:ext cx="183672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Собственность -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202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S01576_"/>
          <p:cNvPicPr/>
          <p:nvPr/>
        </p:nvPicPr>
        <p:blipFill>
          <a:blip r:embed="rId1"/>
          <a:stretch/>
        </p:blipFill>
        <p:spPr>
          <a:xfrm>
            <a:off x="611280" y="1916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PE03554_"/>
          <p:cNvPicPr/>
          <p:nvPr/>
        </p:nvPicPr>
        <p:blipFill>
          <a:blip r:embed="rId2"/>
          <a:stretch/>
        </p:blipFill>
        <p:spPr>
          <a:xfrm>
            <a:off x="6732720" y="436572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D07179_"/>
          <p:cNvPicPr/>
          <p:nvPr/>
        </p:nvPicPr>
        <p:blipFill>
          <a:blip r:embed="rId1"/>
          <a:stretch/>
        </p:blipFill>
        <p:spPr>
          <a:xfrm>
            <a:off x="6300720" y="270000"/>
            <a:ext cx="2843280" cy="204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Акционерная (корпора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D05082_"/>
          <p:cNvPicPr/>
          <p:nvPr/>
        </p:nvPicPr>
        <p:blipFill>
          <a:blip r:embed="rId1"/>
          <a:stretch/>
        </p:blipFill>
        <p:spPr>
          <a:xfrm>
            <a:off x="6645240" y="333360"/>
            <a:ext cx="249876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Част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Государственная</a:t>
            </a:r>
            <a:r>
              <a:rPr b="1" lang="ru-RU" sz="3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BD07240_"/>
          <p:cNvPicPr/>
          <p:nvPr/>
        </p:nvPicPr>
        <p:blipFill>
          <a:blip r:embed="rId1"/>
          <a:stretch/>
        </p:blipFill>
        <p:spPr>
          <a:xfrm>
            <a:off x="7020000" y="476280"/>
            <a:ext cx="1819080" cy="155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L01065_"/>
          <p:cNvPicPr/>
          <p:nvPr/>
        </p:nvPicPr>
        <p:blipFill>
          <a:blip r:embed="rId2"/>
          <a:stretch/>
        </p:blipFill>
        <p:spPr>
          <a:xfrm>
            <a:off x="6732720" y="4149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опера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D07161_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171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ллек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7675_"/>
          <p:cNvPicPr/>
          <p:nvPr/>
        </p:nvPicPr>
        <p:blipFill>
          <a:blip r:embed="rId1"/>
          <a:stretch/>
        </p:blipFill>
        <p:spPr>
          <a:xfrm>
            <a:off x="5435640" y="3500280"/>
            <a:ext cx="220500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4003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Экономи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(греч.) Искусство управления домашним хозяй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E03556_"/>
          <p:cNvPicPr/>
          <p:nvPr/>
        </p:nvPicPr>
        <p:blipFill>
          <a:blip r:embed="rId2"/>
          <a:stretch/>
        </p:blipFill>
        <p:spPr>
          <a:xfrm>
            <a:off x="7236000" y="620640"/>
            <a:ext cx="1766880" cy="1843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7885080" y="620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E03554_"/>
          <p:cNvPicPr/>
          <p:nvPr/>
        </p:nvPicPr>
        <p:blipFill>
          <a:blip r:embed="rId1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915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«Экономика есть искусство удовлетворять безграничные потребности при помощи  ограниченных ресурсов»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-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99ff"/>
                </a:solidFill>
                <a:latin typeface="Comic Sans MS"/>
              </a:rPr>
              <a:t>Л. Питер (американский писатель)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611280" y="458136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3794" y="17991"/>
                </a:moveTo>
                <a:lnTo>
                  <a:pt x="17806" y="10985"/>
                </a:lnTo>
                <a:lnTo>
                  <a:pt x="17806" y="24997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уществует прямая зависимость между состоянием экономики и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уровнем жизни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ровень жизни характеризуе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отребление на душу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Реальные доходы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беспеченность жиль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оциальное обесп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E03556_"/>
          <p:cNvPicPr/>
          <p:nvPr/>
        </p:nvPicPr>
        <p:blipFill>
          <a:blip r:embed="rId2"/>
          <a:stretch/>
        </p:blipFill>
        <p:spPr>
          <a:xfrm>
            <a:off x="6754680" y="4365720"/>
            <a:ext cx="238932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Уровень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уровень благосостояния населения, степень удовлетворения основных жизненных потребностей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E03554_"/>
          <p:cNvPicPr/>
          <p:nvPr/>
        </p:nvPicPr>
        <p:blipFill>
          <a:blip r:embed="rId1"/>
          <a:stretch/>
        </p:blipFill>
        <p:spPr>
          <a:xfrm>
            <a:off x="971640" y="3448080"/>
            <a:ext cx="2736720" cy="2638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E03556_"/>
          <p:cNvPicPr/>
          <p:nvPr/>
        </p:nvPicPr>
        <p:blipFill>
          <a:blip r:embed="rId1"/>
          <a:stretch/>
        </p:blipFill>
        <p:spPr>
          <a:xfrm>
            <a:off x="5219640" y="3933720"/>
            <a:ext cx="2525760" cy="263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Показателями экономического роста являются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аловой национальны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Н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валовой внутренни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В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национальный доход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 (Н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национальный продукт (ВНП)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S01576_"/>
          <p:cNvPicPr/>
          <p:nvPr/>
        </p:nvPicPr>
        <p:blipFill>
          <a:blip r:embed="rId1"/>
          <a:stretch/>
        </p:blipFill>
        <p:spPr>
          <a:xfrm>
            <a:off x="32400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E03554_"/>
          <p:cNvPicPr/>
          <p:nvPr/>
        </p:nvPicPr>
        <p:blipFill>
          <a:blip r:embed="rId2"/>
          <a:stretch/>
        </p:blipFill>
        <p:spPr>
          <a:xfrm>
            <a:off x="468360" y="4857840"/>
            <a:ext cx="187164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внутренний продукт (ВВП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68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S01576_"/>
          <p:cNvPicPr/>
          <p:nvPr/>
        </p:nvPicPr>
        <p:blipFill>
          <a:blip r:embed="rId1"/>
          <a:stretch/>
        </p:blipFill>
        <p:spPr>
          <a:xfrm>
            <a:off x="46836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03554_"/>
          <p:cNvPicPr/>
          <p:nvPr/>
        </p:nvPicPr>
        <p:blipFill>
          <a:blip r:embed="rId2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53:27Z</dcterms:created>
  <dc:creator>Тимотыш</dc:creator>
  <dc:description/>
  <dc:language>en-US</dc:language>
  <cp:lastModifiedBy>LEGION</cp:lastModifiedBy>
  <dcterms:modified xsi:type="dcterms:W3CDTF">2016-01-04T14:03:33Z</dcterms:modified>
  <cp:revision>10</cp:revision>
  <dc:subject/>
  <dc:title>Экономика и ее роль в жизни современного общества</dc:title>
</cp:coreProperties>
</file>